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FD2E-981C-465E-92B9-1E6A9D31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23DD-F47D-4A9F-8EC0-3C577154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54B6-BB92-46B2-8F1E-CC7756F6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3E5D-8D7E-465A-864C-FCE6AC47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852A-B6BD-4497-9529-481316425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F90D-0439-4EAF-BD0B-1669DA99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43B0-1362-4400-BF9F-478612BB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0A8A-E50C-4D9B-BAA9-6BB8B823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9997-D3BB-4146-84FA-E5C74782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88D2-A2C0-472F-88E5-22B2C0D3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9859-8F39-4B1B-BC06-4A1A795D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16E4-59DF-4929-9027-1D101C6E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FED7-5FA9-466D-A559-C26EF12F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32C7-08DE-4A50-A28C-BAF6364C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8DD5-C212-4CD2-A580-12AD3C48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91E5-DC7C-4E90-92FE-8592024A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BA2C-1FEF-401A-AB17-6C00C0F0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6819-E114-40FF-B7B5-FB0A7548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B4C6-89ED-42C1-B4E9-29B8B068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ED4-830E-44A0-888A-4153DADF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3DA-AB50-4415-A775-38D4EB2B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21C-725C-427F-B2D8-F1D61A9B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0B5A-F099-45E2-8807-F1738172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6EA-34EC-4032-A25D-2C60E4B0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F508-5668-42DD-BBF0-0EC8250B90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A077-166E-46AD-B947-D0CA1FB860E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The Decline of Feudalism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 #1 Political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 is the Bubonic Plague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4956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famous form of Pla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a bacterial inf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s through flea bites (Rarely through the ai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treatment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50%-100% Leth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bonic Plague probably started in China or Mongo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 Bubonic Plague is curable with the use of proper antibiotics (3,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bubonic_plague"/>
          <p:cNvPicPr/>
          <p:nvPr/>
        </p:nvPicPr>
        <p:blipFill>
          <a:blip r:embed="rId1"/>
          <a:stretch/>
        </p:blipFill>
        <p:spPr>
          <a:xfrm>
            <a:off x="6095880" y="1752480"/>
            <a:ext cx="2743200" cy="2560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Blackrat"/>
          <p:cNvPicPr/>
          <p:nvPr/>
        </p:nvPicPr>
        <p:blipFill>
          <a:blip r:embed="rId2"/>
          <a:stretch/>
        </p:blipFill>
        <p:spPr>
          <a:xfrm>
            <a:off x="4267080" y="4465800"/>
            <a:ext cx="358164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ymptoms of the Bubonic Plagu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lu like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eezing, Aches, and Fati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wollen lymph gl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pits, Groin, and Ne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ollen glands develop in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bo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eventually rupture and bl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ug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coughing starts the plague has become airb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in, Bleeding, Decaying of Tissue and Death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3-7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sneeze-k-17"/>
          <p:cNvPicPr/>
          <p:nvPr/>
        </p:nvPicPr>
        <p:blipFill>
          <a:blip r:embed="rId1"/>
          <a:stretch/>
        </p:blipFill>
        <p:spPr>
          <a:xfrm>
            <a:off x="4724280" y="1600200"/>
            <a:ext cx="2971800" cy="1969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boboues"/>
          <p:cNvPicPr/>
          <p:nvPr/>
        </p:nvPicPr>
        <p:blipFill>
          <a:blip r:embed="rId2"/>
          <a:stretch/>
        </p:blipFill>
        <p:spPr>
          <a:xfrm>
            <a:off x="4267080" y="3962520"/>
            <a:ext cx="16765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e Bubonic Plague spreads to Europ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5181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as spread along trade ro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 along the Silk 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spread to Europe on 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outbreaks of the Bubonic Plague would occur in port cities and t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map"/>
          <p:cNvPicPr/>
          <p:nvPr/>
        </p:nvPicPr>
        <p:blipFill>
          <a:blip r:embed="rId1"/>
          <a:stretch/>
        </p:blipFill>
        <p:spPr>
          <a:xfrm>
            <a:off x="5181480" y="2438280"/>
            <a:ext cx="38322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preading the Plague in Europ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343040" y="1828440"/>
            <a:ext cx="4800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s in modern Turkey and 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anitation encouraged the spread of the Pla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gue infected rats and fleas feed on garbage, dead animals, and human w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people did not change their clo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people did not bath regul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did not know what caused the Plague, or how it sp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trash"/>
          <p:cNvPicPr/>
          <p:nvPr/>
        </p:nvPicPr>
        <p:blipFill>
          <a:blip r:embed="rId1"/>
          <a:stretch/>
        </p:blipFill>
        <p:spPr>
          <a:xfrm>
            <a:off x="0" y="25146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Impact of the “Black Death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ely half of the people in China d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 million Europeans died, about 1/3 of the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 and The Economy were destro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built with an emphasis on Comm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shifted from the Nobles to the Commo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many people had died that workers were in short su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ers could demand more money and more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people moved away from feudal manors and into towns and cities to look for better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asant rebellions began to break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The Decline of Feudalism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 #3- The 100 Years War (1337-14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 and On for 116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g of France dies with no suc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g Edward III of England is a distant relative, so he claims the French thr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ar was very back and f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ually France would win and the English would be driven out of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6" descr="http://colorkiddies.com/fantasy/K/KING_01/king_01_clip.gif"/>
          <p:cNvPicPr/>
          <p:nvPr/>
        </p:nvPicPr>
        <p:blipFill>
          <a:blip r:embed="rId1"/>
          <a:stretch/>
        </p:blipFill>
        <p:spPr>
          <a:xfrm>
            <a:off x="3276720" y="3602160"/>
            <a:ext cx="2400120" cy="3255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ttp://www.collaborativepractice.com/images/flag_england.png"/>
          <p:cNvPicPr/>
          <p:nvPr/>
        </p:nvPicPr>
        <p:blipFill>
          <a:blip r:embed="rId2"/>
          <a:stretch/>
        </p:blipFill>
        <p:spPr>
          <a:xfrm>
            <a:off x="152280" y="4191120"/>
            <a:ext cx="2954520" cy="2077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http://www.olstars.com/images/flags/Big/fr.gif"/>
          <p:cNvPicPr/>
          <p:nvPr/>
        </p:nvPicPr>
        <p:blipFill>
          <a:blip r:embed="rId3"/>
          <a:stretch/>
        </p:blipFill>
        <p:spPr>
          <a:xfrm>
            <a:off x="5691240" y="4191120"/>
            <a:ext cx="296712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New Weapons </a:t>
            </a: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(Battles of Crecy, Poitiers, and Agincourt)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4724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ttle of Cre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 Ar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numbered 3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many armored knights, mostly peasant sold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BOW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ttle of Cre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nch Ar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times more tr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nted armored kn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ROSSBOW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http://s3-eu-west-1.amazonaws.com/lookandlearn-preview/A/A003/A003511.jpg"/>
          <p:cNvPicPr/>
          <p:nvPr/>
        </p:nvPicPr>
        <p:blipFill>
          <a:blip r:embed="rId1"/>
          <a:stretch/>
        </p:blipFill>
        <p:spPr>
          <a:xfrm>
            <a:off x="533520" y="4840200"/>
            <a:ext cx="2466720" cy="197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http://www.military-art.com/mall/images/mc0027.jpg"/>
          <p:cNvPicPr/>
          <p:nvPr/>
        </p:nvPicPr>
        <p:blipFill>
          <a:blip r:embed="rId2"/>
          <a:stretch/>
        </p:blipFill>
        <p:spPr>
          <a:xfrm>
            <a:off x="5791320" y="4438800"/>
            <a:ext cx="168588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Joan of Arc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3434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29- A peasant teenage French girl who hears voices telling her to drive the English from France and crown Charles V King of France, rallies France to vi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7, 1429 Joan of Arc leads a French army to victory at the Battle of Orl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ly 17, 1429 Charles V is crowned King of 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year later, Joan of Arc is captured by the Brit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ed in Church Courts for Heresy and witchcraf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rned at the st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http://www.thethreadsthatbindus.net/joan-of-arc-med.jpg"/>
          <p:cNvPicPr/>
          <p:nvPr/>
        </p:nvPicPr>
        <p:blipFill>
          <a:blip r:embed="rId1"/>
          <a:stretch/>
        </p:blipFill>
        <p:spPr>
          <a:xfrm>
            <a:off x="6303960" y="0"/>
            <a:ext cx="2819520" cy="3382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http://schoolworkhelper.net/wp-content/uploads/2011/08/WitchBurningJoanOfArc.jpg"/>
          <p:cNvPicPr/>
          <p:nvPr/>
        </p:nvPicPr>
        <p:blipFill>
          <a:blip r:embed="rId2"/>
          <a:stretch/>
        </p:blipFill>
        <p:spPr>
          <a:xfrm>
            <a:off x="4572000" y="3362400"/>
            <a:ext cx="27432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Impacts of 100 Years of Warfar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and French Kings Gain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specially Fren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ism grows in France and 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ored knights and Chivalry have been replaced with Peasant armies and Longbow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bles and Knights lose power and become less important, while Peasants become more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Englan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changes that would bring an end to Feudalism started in England in the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1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enturies (1100’s-1200’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really starts with King Henry II (1154-118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flag"/>
          <p:cNvPicPr/>
          <p:nvPr/>
        </p:nvPicPr>
        <p:blipFill>
          <a:blip r:embed="rId1"/>
          <a:stretch/>
        </p:blipFill>
        <p:spPr>
          <a:xfrm>
            <a:off x="762120" y="3809880"/>
            <a:ext cx="2620800" cy="2733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beefeaters"/>
          <p:cNvPicPr/>
          <p:nvPr/>
        </p:nvPicPr>
        <p:blipFill>
          <a:blip r:embed="rId2"/>
          <a:stretch/>
        </p:blipFill>
        <p:spPr>
          <a:xfrm>
            <a:off x="4495680" y="3876840"/>
            <a:ext cx="359100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The Decline of Feudalism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 #4- The Great Schis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nflict in the Churc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Kings and Popes Compet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724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ig Incident (1300-13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g Philip IV (France) says that the clergy in France have to answer to the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e Boniface VIII says that kings must always obey po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ilip the IV has the Pope held prisoner, he is later rescued, but dies shortly thereaf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wer of the Pope over Kings was now completely g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0" descr="http://www.presentermedia.com/files/clipart/00006000/6545/knock_out_competition_md_wm.jpg"/>
          <p:cNvPicPr/>
          <p:nvPr/>
        </p:nvPicPr>
        <p:blipFill>
          <a:blip r:embed="rId1"/>
          <a:stretch/>
        </p:blipFill>
        <p:spPr>
          <a:xfrm>
            <a:off x="4876920" y="220968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ore then 1 Pope ?!?!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5029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e Urban 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by Italian Cardinals because he was Ital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d in 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ommunicated Clement V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43040" y="1828440"/>
            <a:ext cx="4800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ment V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by French Cardinals because he was Fre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ved in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ommunicated Urban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52280" y="4114800"/>
            <a:ext cx="8763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here is actually a 3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Verdana"/>
              </a:rPr>
              <a:t>rd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 Pope at the same tim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Who the heck is in charge of the Church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10" descr="http://ts2.mm.bing.net/th?id=I.5015586214708073&amp;pid=15.1"/>
          <p:cNvPicPr/>
          <p:nvPr/>
        </p:nvPicPr>
        <p:blipFill>
          <a:blip r:embed="rId1"/>
          <a:stretch/>
        </p:blipFill>
        <p:spPr>
          <a:xfrm>
            <a:off x="3629160" y="4994280"/>
            <a:ext cx="1809720" cy="1863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http://www.italian-flag.org/italian-640.gif"/>
          <p:cNvPicPr/>
          <p:nvPr/>
        </p:nvPicPr>
        <p:blipFill>
          <a:blip r:embed="rId2"/>
          <a:stretch/>
        </p:blipFill>
        <p:spPr>
          <a:xfrm>
            <a:off x="-17640" y="4994280"/>
            <a:ext cx="2876760" cy="1862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http://ts2.mm.bing.net/th?id=I.4877460083903545&amp;pid=15.1"/>
          <p:cNvPicPr/>
          <p:nvPr/>
        </p:nvPicPr>
        <p:blipFill>
          <a:blip r:embed="rId3"/>
          <a:stretch/>
        </p:blipFill>
        <p:spPr>
          <a:xfrm>
            <a:off x="6259680" y="4997520"/>
            <a:ext cx="288432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The Great Schism </a:t>
            </a:r>
            <a:br>
              <a:rPr sz="4000"/>
            </a:b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(Split in the Church)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67816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who is Po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14 The Council of Constance tries to figure this mess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able to force all 3 Popes to q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years later they choose a new Pope, only 1 this time, Martin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http://ts2.mm.bing.net/th?id=I.4657377367556153&amp;pid=15.1"/>
          <p:cNvPicPr/>
          <p:nvPr/>
        </p:nvPicPr>
        <p:blipFill>
          <a:blip r:embed="rId1"/>
          <a:stretch/>
        </p:blipFill>
        <p:spPr>
          <a:xfrm>
            <a:off x="6705720" y="1781280"/>
            <a:ext cx="2438280" cy="3419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http://ts2.mm.bing.net/th?id=I.4972640837503209&amp;pid=15.1"/>
          <p:cNvPicPr/>
          <p:nvPr/>
        </p:nvPicPr>
        <p:blipFill>
          <a:blip r:embed="rId2"/>
          <a:stretch/>
        </p:blipFill>
        <p:spPr>
          <a:xfrm>
            <a:off x="1828800" y="4800600"/>
            <a:ext cx="5219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??Questions?? about the Church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91720" cy="32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start to resent the wealth and power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e and the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to question the teachings of the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200" indent="-3967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really the head of the Chur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200" indent="-3967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should the clergy l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200" indent="-3967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common people even really need the cl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200" indent="-396720">
              <a:lnSpc>
                <a:spcPct val="8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way, often times the people who asked these questions were put on trial for heresy and burned at the s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of this questions showed that the power and influence of the Church was decl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5" descr="MCj04344110000[1]"/>
          <p:cNvPicPr/>
          <p:nvPr/>
        </p:nvPicPr>
        <p:blipFill>
          <a:blip r:embed="rId1"/>
          <a:stretch/>
        </p:blipFill>
        <p:spPr>
          <a:xfrm>
            <a:off x="6934320" y="2057400"/>
            <a:ext cx="1628640" cy="1828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http://wattsupwiththat.files.wordpress.com/2009/12/decline_graph.jpg"/>
          <p:cNvPicPr/>
          <p:nvPr/>
        </p:nvPicPr>
        <p:blipFill>
          <a:blip r:embed="rId2"/>
          <a:stretch/>
        </p:blipFill>
        <p:spPr>
          <a:xfrm>
            <a:off x="3581280" y="4876920"/>
            <a:ext cx="1486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Impact on the End of Feudalis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ngs now had more power than the P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rch is having problems with transferring power, and actually running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people begin to question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people begin to resent the wealth and power of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ecap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4 main reasons why Feudalism fell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tical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 the court system, More rights for the people, more power for the 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bonic Pla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power for the common people because their labor was even more important n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 years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wth of Nationalism, End of Chivalry, Common people continue to gain power and impor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eat Schis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urch loses power, people begin to question and resent the Chu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Final Thou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ings and Common people were gaining more and more power, while the Nobles and Church were losing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ople were sick of all this turmoil and really wanted things to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King Henry II Changes the Court System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4343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al by Ord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al by Comb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udal Lords deciding guilt or innocence and punish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Jury would accu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ople of c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s would be tried befor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yal Ju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lt or Innocence would 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more on the facts of th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jury"/>
          <p:cNvPicPr/>
          <p:nvPr/>
        </p:nvPicPr>
        <p:blipFill>
          <a:blip r:embed="rId1"/>
          <a:stretch/>
        </p:blipFill>
        <p:spPr>
          <a:xfrm>
            <a:off x="4648320" y="3429000"/>
            <a:ext cx="4495680" cy="325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judge"/>
          <p:cNvPicPr/>
          <p:nvPr/>
        </p:nvPicPr>
        <p:blipFill>
          <a:blip r:embed="rId2"/>
          <a:stretch/>
        </p:blipFill>
        <p:spPr>
          <a:xfrm>
            <a:off x="5638680" y="1219320"/>
            <a:ext cx="312444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Henry II Fights With The Church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038480" y="1828800"/>
            <a:ext cx="46483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64- Henry issued the Constitutions of Clare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sted the Rights of the 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I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ne was that if a member of the clergy was accused of a crime they would be tried in Royal Cou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hbishop of Canterbury, Thomas Becket, Objected!!! The clergy should be tried in Church Courts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70 Becket is killed by 4 knigh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73 Becket becomes a saint, and his tomb becomes a destination for pilgrim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Henry II"/>
          <p:cNvPicPr/>
          <p:nvPr/>
        </p:nvPicPr>
        <p:blipFill>
          <a:blip r:embed="rId1"/>
          <a:stretch/>
        </p:blipFill>
        <p:spPr>
          <a:xfrm>
            <a:off x="990720" y="2286000"/>
            <a:ext cx="300672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King John I Makes A Lot of Enemies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I becomes king when his father, Henry II, dies in 11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most of England’s land in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xed the no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nored the rights of the no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ght with th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vily taxed church land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enemy"/>
          <p:cNvPicPr/>
          <p:nvPr/>
        </p:nvPicPr>
        <p:blipFill>
          <a:blip r:embed="rId1"/>
          <a:stretch/>
        </p:blipFill>
        <p:spPr>
          <a:xfrm>
            <a:off x="5486400" y="3352680"/>
            <a:ext cx="348624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King John I And The Magna Cart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040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15- The Magna Carta (Great Charter) is signed by King Joh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bles forced John I to sign the Magna Ca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ing must ask the nobles before he raises ta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free men must have a 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ty cannot just be ta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would King John I sign a document that took away some of his pow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 did not agree…..He would be overthrown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5" descr="magna_carta"/>
          <p:cNvPicPr/>
          <p:nvPr/>
        </p:nvPicPr>
        <p:blipFill>
          <a:blip r:embed="rId1"/>
          <a:stretch/>
        </p:blipFill>
        <p:spPr>
          <a:xfrm>
            <a:off x="5214960" y="1828800"/>
            <a:ext cx="29019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King Edward 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95 Edward I started the Model Parliament, to help govern 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d lots of different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Cl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ranking Cl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Parliament"/>
          <p:cNvPicPr/>
          <p:nvPr/>
        </p:nvPicPr>
        <p:blipFill>
          <a:blip r:embed="rId1"/>
          <a:stretch/>
        </p:blipFill>
        <p:spPr>
          <a:xfrm>
            <a:off x="4648320" y="3581280"/>
            <a:ext cx="419076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So How Did This Stuff Help End Feudalism?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ngthened the power of the 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kened the power of the No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ve more power to Common Peo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a Carta gave people rights that could not be taken a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Cour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Parliament gave regular people a say in the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The Decline of Feudalism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 #2- The Bubonic Plague AKA “The Black Deat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ller Christine</dc:creator>
  <dc:description/>
  <dc:language>en-US</dc:language>
  <cp:lastModifiedBy>Christine Miller</cp:lastModifiedBy>
  <dcterms:modified xsi:type="dcterms:W3CDTF">2013-03-22T14:33:42Z</dcterms:modified>
  <cp:revision>1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